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5.png" ContentType="image/png"/>
  <Override PartName="/ppt/media/image4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D574-709B-4ED6-ABB3-4FF10118A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CE75-6A3F-46FD-B654-F896A6732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5571-D51E-4EEB-86B9-705986A6F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942F-C37F-4B21-A0BF-B5B1379EF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E1B5-7FF0-42FF-BD79-E3C407CDC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576E-6AE3-49A0-B955-52EFAF1EA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B5E7-D3B2-48CD-9883-B364722D0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E903-F142-478F-A48D-0BA33D39B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A5B5-5F5A-4C48-8B1A-B3AEAE2A6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2E35-9984-40B2-ACBB-82174A641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C794-1C49-41D0-AEED-0240768A2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C431-D1F8-45F4-85AE-00519973C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02DF3-293F-4288-A77F-D9082B15ADED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4.pn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7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7" descr=""/>
          <p:cNvPicPr/>
          <p:nvPr/>
        </p:nvPicPr>
        <p:blipFill>
          <a:blip r:embed="rId1"/>
          <a:stretch/>
        </p:blipFill>
        <p:spPr>
          <a:xfrm>
            <a:off x="-133200" y="-85680"/>
            <a:ext cx="9393120" cy="10555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290520" y="993600"/>
            <a:ext cx="8562960" cy="22194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1692360" y="4149720"/>
            <a:ext cx="7072200" cy="6732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609560" y="4941720"/>
            <a:ext cx="7237440" cy="7747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1744560" y="5788080"/>
            <a:ext cx="712332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7" descr=""/>
          <p:cNvPicPr/>
          <p:nvPr/>
        </p:nvPicPr>
        <p:blipFill>
          <a:blip r:embed="rId1"/>
          <a:stretch/>
        </p:blipFill>
        <p:spPr>
          <a:xfrm>
            <a:off x="-133200" y="-85680"/>
            <a:ext cx="9393120" cy="10555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2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4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97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6" descr=""/>
          <p:cNvPicPr/>
          <p:nvPr/>
        </p:nvPicPr>
        <p:blipFill>
          <a:blip r:embed="rId3"/>
          <a:stretch/>
        </p:blipFill>
        <p:spPr>
          <a:xfrm>
            <a:off x="114480" y="1484280"/>
            <a:ext cx="891540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2" descr=""/>
          <p:cNvPicPr/>
          <p:nvPr/>
        </p:nvPicPr>
        <p:blipFill>
          <a:blip r:embed="rId1"/>
          <a:stretch/>
        </p:blipFill>
        <p:spPr>
          <a:xfrm>
            <a:off x="1187280" y="3997440"/>
            <a:ext cx="7696440" cy="20955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"/>
          <p:cNvPicPr/>
          <p:nvPr/>
        </p:nvPicPr>
        <p:blipFill>
          <a:blip r:embed="rId2"/>
          <a:stretch/>
        </p:blipFill>
        <p:spPr>
          <a:xfrm>
            <a:off x="-133200" y="-85680"/>
            <a:ext cx="9393120" cy="10555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"/>
          <p:cNvPicPr/>
          <p:nvPr/>
        </p:nvPicPr>
        <p:blipFill>
          <a:blip r:embed="rId3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"/>
          <p:cNvPicPr/>
          <p:nvPr/>
        </p:nvPicPr>
        <p:blipFill>
          <a:blip r:embed="rId4"/>
          <a:stretch/>
        </p:blipFill>
        <p:spPr>
          <a:xfrm>
            <a:off x="1197000" y="1052640"/>
            <a:ext cx="7696080" cy="10285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1" descr=""/>
          <p:cNvPicPr/>
          <p:nvPr/>
        </p:nvPicPr>
        <p:blipFill>
          <a:blip r:embed="rId5"/>
          <a:stretch/>
        </p:blipFill>
        <p:spPr>
          <a:xfrm>
            <a:off x="1908000" y="2871720"/>
            <a:ext cx="6963120" cy="486000"/>
          </a:xfrm>
          <a:prstGeom prst="rect">
            <a:avLst/>
          </a:prstGeom>
          <a:ln w="0">
            <a:noFill/>
          </a:ln>
        </p:spPr>
      </p:pic>
      <p:sp>
        <p:nvSpPr>
          <p:cNvPr id="89" name="عنوان 1"/>
          <p:cNvSpPr/>
          <p:nvPr/>
        </p:nvSpPr>
        <p:spPr>
          <a:xfrm>
            <a:off x="324000" y="3432240"/>
            <a:ext cx="85690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ا . بل هو شامل لكل الجسم والوجه منها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عنوان 1"/>
          <p:cNvSpPr/>
          <p:nvPr/>
        </p:nvSpPr>
        <p:spPr>
          <a:xfrm>
            <a:off x="250920" y="6093000"/>
            <a:ext cx="85690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تفسير القرآن الكريم بالسنة النبوي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13" descr=""/>
          <p:cNvPicPr/>
          <p:nvPr/>
        </p:nvPicPr>
        <p:blipFill>
          <a:blip r:embed="rId6"/>
          <a:stretch/>
        </p:blipFill>
        <p:spPr>
          <a:xfrm>
            <a:off x="250920" y="2060640"/>
            <a:ext cx="864216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71380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rcRect l="0" t="0" r="0" b="50"/>
          <a:stretch/>
        </p:blipFill>
        <p:spPr>
          <a:xfrm>
            <a:off x="290520" y="2852640"/>
            <a:ext cx="8602560" cy="9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3" descr=""/>
          <p:cNvPicPr/>
          <p:nvPr/>
        </p:nvPicPr>
        <p:blipFill>
          <a:blip r:embed="rId1"/>
          <a:stretch/>
        </p:blipFill>
        <p:spPr>
          <a:xfrm>
            <a:off x="468360" y="1700280"/>
            <a:ext cx="8351640" cy="30970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3622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2922480" y="4797360"/>
            <a:ext cx="344196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7" descr=""/>
          <p:cNvPicPr/>
          <p:nvPr/>
        </p:nvPicPr>
        <p:blipFill>
          <a:blip r:embed="rId1"/>
          <a:stretch/>
        </p:blipFill>
        <p:spPr>
          <a:xfrm>
            <a:off x="-133200" y="-85680"/>
            <a:ext cx="9393120" cy="10555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49" name="عنوان 1"/>
          <p:cNvSpPr/>
          <p:nvPr/>
        </p:nvSpPr>
        <p:spPr>
          <a:xfrm>
            <a:off x="204840" y="1700280"/>
            <a:ext cx="8640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بعد ذكر أحوال التعساء  ذكر أحوال يوم القيام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3"/>
          <a:stretch/>
        </p:blipFill>
        <p:spPr>
          <a:xfrm>
            <a:off x="2430360" y="1052640"/>
            <a:ext cx="6462720" cy="58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7" descr=""/>
          <p:cNvPicPr/>
          <p:nvPr/>
        </p:nvPicPr>
        <p:blipFill>
          <a:blip r:embed="rId1"/>
          <a:stretch/>
        </p:blipFill>
        <p:spPr>
          <a:xfrm>
            <a:off x="-133200" y="-85680"/>
            <a:ext cx="9393120" cy="1055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"/>
          <p:cNvPicPr/>
          <p:nvPr/>
        </p:nvPicPr>
        <p:blipFill>
          <a:blip r:embed="rId2"/>
          <a:stretch/>
        </p:blipFill>
        <p:spPr>
          <a:xfrm>
            <a:off x="108000" y="1012680"/>
            <a:ext cx="8901000" cy="565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2" descr=""/>
          <p:cNvPicPr/>
          <p:nvPr/>
        </p:nvPicPr>
        <p:blipFill>
          <a:blip r:embed="rId1"/>
          <a:stretch/>
        </p:blipFill>
        <p:spPr>
          <a:xfrm>
            <a:off x="250920" y="2289240"/>
            <a:ext cx="8642160" cy="43797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" descr=""/>
          <p:cNvPicPr/>
          <p:nvPr/>
        </p:nvPicPr>
        <p:blipFill>
          <a:blip r:embed="rId2"/>
          <a:stretch/>
        </p:blipFill>
        <p:spPr>
          <a:xfrm>
            <a:off x="179280" y="1052640"/>
            <a:ext cx="8869320" cy="936360"/>
          </a:xfrm>
          <a:prstGeom prst="rect">
            <a:avLst/>
          </a:prstGeom>
          <a:ln w="0">
            <a:noFill/>
          </a:ln>
        </p:spPr>
      </p:pic>
      <p:sp>
        <p:nvSpPr>
          <p:cNvPr id="55" name="عنوان 1"/>
          <p:cNvSpPr/>
          <p:nvPr/>
        </p:nvSpPr>
        <p:spPr>
          <a:xfrm>
            <a:off x="395280" y="602136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تعلو وجوههم النا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7" descr=""/>
          <p:cNvPicPr/>
          <p:nvPr/>
        </p:nvPicPr>
        <p:blipFill>
          <a:blip r:embed="rId3"/>
          <a:stretch/>
        </p:blipFill>
        <p:spPr>
          <a:xfrm>
            <a:off x="-133200" y="-85680"/>
            <a:ext cx="9393120" cy="1055520"/>
          </a:xfrm>
          <a:prstGeom prst="rect">
            <a:avLst/>
          </a:prstGeom>
          <a:ln w="0">
            <a:noFill/>
          </a:ln>
        </p:spPr>
      </p:pic>
      <p:sp>
        <p:nvSpPr>
          <p:cNvPr id="57" name="عنوان 1"/>
          <p:cNvSpPr/>
          <p:nvPr/>
        </p:nvSpPr>
        <p:spPr>
          <a:xfrm>
            <a:off x="395280" y="5410080"/>
            <a:ext cx="48243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خرجوا من القبور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395280" y="4869000"/>
            <a:ext cx="4824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غالب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مستطيل 1"/>
          <p:cNvSpPr/>
          <p:nvPr/>
        </p:nvSpPr>
        <p:spPr>
          <a:xfrm>
            <a:off x="8604360" y="1700280"/>
            <a:ext cx="288720" cy="1443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179280" y="148428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له تعالى لا يخلف وعده أبداً في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نصرة الحق وأهله وفي الانتقام من الباطل وحزبه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189000" y="2043000"/>
            <a:ext cx="8665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عظم يوم القيامة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ما فيه من اهوال وتغييرات كوني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179280" y="2492280"/>
            <a:ext cx="86662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إيمان بالبعث وقيام الموتى من قبورهم للحساب :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220680" y="3038400"/>
            <a:ext cx="86662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أحوال المجرمين عند العرض وفي جهنم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مقيدين بالقيود  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وقمصانهم من نحاس مذاب  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3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وتغطي وجوهم النار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179280" y="3841920"/>
            <a:ext cx="866628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له عزوجل لا يظلم أحداً ولا يهلك الله إلا من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يستحق الهلاك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179280" y="4319640"/>
            <a:ext cx="866628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إحاطته سبحانه بكل شيء فلا يشغله شان عن شأن بل يحاسب الناس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جميعاً في وقت واحد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179280" y="480384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كفاية القرآن الكريم في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بلاغ والإنذار وقيام الحجة على الناس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7" descr=""/>
          <p:cNvPicPr/>
          <p:nvPr/>
        </p:nvPicPr>
        <p:blipFill>
          <a:blip r:embed="rId1"/>
          <a:stretch/>
        </p:blipFill>
        <p:spPr>
          <a:xfrm>
            <a:off x="-133200" y="-85680"/>
            <a:ext cx="9393120" cy="1055520"/>
          </a:xfrm>
          <a:prstGeom prst="rect">
            <a:avLst/>
          </a:prstGeom>
          <a:ln w="0">
            <a:noFill/>
          </a:ln>
        </p:spPr>
      </p:pic>
      <p:sp>
        <p:nvSpPr>
          <p:cNvPr id="69" name="عنوان 1"/>
          <p:cNvSpPr/>
          <p:nvPr/>
        </p:nvSpPr>
        <p:spPr>
          <a:xfrm>
            <a:off x="179280" y="5319720"/>
            <a:ext cx="86662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آيات الله عز وجل المقروءة والمشاهدة تدل على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حدانية الله تعالى وهي عظة لأولى الألباب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7" descr=""/>
          <p:cNvPicPr/>
          <p:nvPr/>
        </p:nvPicPr>
        <p:blipFill>
          <a:blip r:embed="rId1"/>
          <a:stretch/>
        </p:blipFill>
        <p:spPr>
          <a:xfrm>
            <a:off x="-133200" y="-85680"/>
            <a:ext cx="9393120" cy="10555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2" name="عنوان 1"/>
          <p:cNvSpPr/>
          <p:nvPr/>
        </p:nvSpPr>
        <p:spPr>
          <a:xfrm>
            <a:off x="252360" y="2419200"/>
            <a:ext cx="864072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أن الله يملي للظالم حتى إذا أخذه لم يفلت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6" descr=""/>
          <p:cNvPicPr/>
          <p:nvPr/>
        </p:nvPicPr>
        <p:blipFill>
          <a:blip r:embed="rId3"/>
          <a:stretch/>
        </p:blipFill>
        <p:spPr>
          <a:xfrm>
            <a:off x="3059280" y="976320"/>
            <a:ext cx="586728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7-29T15:35:33Z</dcterms:modified>
  <cp:revision>1881</cp:revision>
  <dc:subject/>
  <dc:title>عرض تقديمي في PowerPoint</dc:title>
</cp:coreProperties>
</file>